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B9F-276D-475D-9BC9-9A7289F8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4EF-7F24-453B-A923-E1912B8C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64B-51CE-433E-8F94-D5F3E73D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EB1-65FF-413B-BCDD-99BB8180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627-2FF7-4CEE-B589-5AD2A4E4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EA7-A2A6-4F1B-B01D-47B3CE9C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CFA-DDD5-4470-98E8-D3141DF4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FF3-7394-415B-98BE-5CC43D42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19C-1ACB-4B06-9173-0AA7F461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7CC-985F-44D0-B739-27F77514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116-D247-448A-908F-7DA6E86F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C55-AC04-40B1-BA2A-D4EFF171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D5E2-D1BB-47AE-ABA0-9080DF8DDA3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he tipo di stipendio hai?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420920"/>
            <a:ext cx="82087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cipolla : lo vedi, lo prendi e pia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905120"/>
            <a:ext cx="78678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canaglia : non ti da una mano, solo ti fa soffrire, però non puoi vivere senza di l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819520"/>
            <a:ext cx="8208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vita : credi che un giorno migliorer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429000"/>
            <a:ext cx="8209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preservativo : ti fa passare la vog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038480"/>
            <a:ext cx="82087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impotente : quando ti serve, ti de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he tipo di stipendio hai?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he tipo di stipendio hai?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420920"/>
            <a:ext cx="82087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dieta : con lui mangi sempre di me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905120"/>
            <a:ext cx="7867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ateo : e' meglio non credere..</a:t>
            </a:r>
            <a:r>
              <a:rPr b="1" lang="it-IT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819520"/>
            <a:ext cx="8208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ateo : e' meglio non credere..</a:t>
            </a:r>
            <a:r>
              <a:rPr b="1" lang="it-IT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429000"/>
            <a:ext cx="8209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umore nero : ridi per non piangere</a:t>
            </a:r>
            <a:r>
              <a:rPr b="1" lang="it-IT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038480"/>
            <a:ext cx="82087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mestruazione : arriva una volta al mese e dura pochi giorni</a:t>
            </a:r>
            <a:r>
              <a:rPr b="1" lang="it-IT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Questa è una revisione automatica del tuo salario.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 Il tuo nuovo salario sarà rivisto in base alla tua risposta a questa semplice domand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Vorresti avere un’aume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334120" y="26668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81520" y="608184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er favore indica la tua prefer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Vorresti avere un’aume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81520" y="608184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er favore indica la tua prefer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Vorresti avere un’aume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81520" y="608184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er favore indica la tua prefer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razie, puoi tornare al lavo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heraton Pallotta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Ufficio Risorse U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In conformità alla tua decisione, il tuo stipendio non sarà aumentat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3300"/>
                </a:solidFill>
                <a:latin typeface="Arial"/>
              </a:rPr>
              <a:t>Un sito interamente dedicato a chi lavora nel Settore del Tu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 Black"/>
              </a:rPr>
              <a:t>http://www.probiviro.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anner1a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4467240" cy="581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29000" y="5715000"/>
            <a:ext cx="26668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Ugo Nanni</cp:lastModifiedBy>
  <dcterms:modified xsi:type="dcterms:W3CDTF">2003-10-13T04:32:42Z</dcterms:modified>
  <cp:revision>27</cp:revision>
  <dc:subject/>
  <dc:title>Anser du att du har tillräckligt hög lön?</dc:title>
</cp:coreProperties>
</file>