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701-0B03-4133-B441-4D73B0EC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ACB-EA22-4AF0-B561-2D100E77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845-0885-4447-B572-0B9A679A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E09-8DFE-441B-899A-FF0703DE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A04-7B67-4AEF-82AC-6A678B84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1C3-3337-4D6E-BD63-90553963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225-EDE3-4CA9-8EF2-6CB10B13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A30-D90B-4B7B-BA16-617911B4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042-0A43-4F76-885A-1C93673C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7D7-5C25-415E-95F9-0D27FEBA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3B2-8178-4CA4-9D56-EECABB53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ACB-29F7-46B0-8AA7-A2DC31FD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1E5-6D37-44D4-9620-18073B978C71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obiviro.it/index.htm" TargetMode="External"/><Relationship Id="rId3" Type="http://schemas.openxmlformats.org/officeDocument/2006/relationships/hyperlink" Target="http://www.probiviro.it/index.htm" TargetMode="External"/><Relationship Id="rId4" Type="http://schemas.openxmlformats.org/officeDocument/2006/relationships/hyperlink" Target="http://www.probiviro.it/index.htm" TargetMode="External"/><Relationship Id="rId5" Type="http://schemas.openxmlformats.org/officeDocument/2006/relationships/hyperlink" Target="http://www.probiviro.it/index.htm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probiviro.it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3276720" y="5410080"/>
            <a:ext cx="259056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663300"/>
                </a:solidFill>
                <a:latin typeface="Arial"/>
              </a:rPr>
              <a:t>Questo programma è un </a:t>
            </a:r>
            <a:r>
              <a:rPr b="0" lang="es-BO" sz="4000" spc="-1" strike="noStrike">
                <a:solidFill>
                  <a:srgbClr val="663300"/>
                </a:solidFill>
                <a:latin typeface="Arial"/>
              </a:rPr>
              <a:t>test di controllo per misurare la tua necessità di andare in ferie al più presto</a:t>
            </a:r>
            <a:r>
              <a:rPr b="0" lang="sv-SE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0" lang="sv-SE" sz="4000" spc="-1" strike="noStrike">
                <a:solidFill>
                  <a:srgbClr val="663300"/>
                </a:solidFill>
                <a:latin typeface="Arial"/>
              </a:rPr>
              <a:t>I risultati del test vengono accettati da tutti gli Ufficio del Persona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85800"/>
            <a:ext cx="822960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000000"/>
                </a:solidFill>
                <a:latin typeface="Arial"/>
              </a:rPr>
              <a:t>Nella prossima diapositiv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000000"/>
                </a:solidFill>
                <a:latin typeface="Arial"/>
              </a:rPr>
              <a:t>appariranno  due delfin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000000"/>
                </a:solidFill>
                <a:latin typeface="Arial"/>
              </a:rPr>
              <a:t>perfettamente identici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BO" sz="4000" spc="-1" strike="noStrike">
                <a:solidFill>
                  <a:srgbClr val="000000"/>
                </a:solidFill>
                <a:latin typeface="Arial"/>
              </a:rPr>
              <a:t>Devi osservarli c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000000"/>
                </a:solidFill>
                <a:latin typeface="Arial"/>
              </a:rPr>
              <a:t>calma e atten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lfini" descr=""/>
          <p:cNvPicPr/>
          <p:nvPr/>
        </p:nvPicPr>
        <p:blipFill>
          <a:blip r:embed="rId2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57200" y="1600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000000"/>
                </a:solidFill>
                <a:latin typeface="Arial"/>
              </a:rPr>
              <a:t>Se  i due delfini ti sono apparsi perfettamente identici, puoi tornare tranquillamente al tuo lavo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663300"/>
                </a:solidFill>
                <a:latin typeface="Arial"/>
              </a:rPr>
              <a:t>Se invece hai </a:t>
            </a:r>
            <a:r>
              <a:rPr b="0" lang="es-BO" sz="3200" spc="-1" strike="noStrike">
                <a:solidFill>
                  <a:srgbClr val="663300"/>
                </a:solidFill>
                <a:latin typeface="Arial"/>
              </a:rPr>
              <a:t>notato qualche differenza, anche minima, tra i due delfini, </a:t>
            </a:r>
            <a:br>
              <a:rPr sz="3200"/>
            </a:br>
            <a:r>
              <a:rPr b="0" lang="es-BO" sz="3600" spc="-1" strike="noStrike">
                <a:solidFill>
                  <a:srgbClr val="663300"/>
                </a:solidFill>
                <a:latin typeface="Arial"/>
              </a:rPr>
              <a:t>(di colore, di forma o di posizione),</a:t>
            </a:r>
            <a:r>
              <a:rPr b="0" lang="es-BO" sz="32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3200"/>
            </a:br>
            <a:r>
              <a:rPr b="0" lang="es-BO" sz="3200" spc="-1" strike="noStrike">
                <a:solidFill>
                  <a:srgbClr val="663300"/>
                </a:solidFill>
                <a:latin typeface="Arial"/>
              </a:rPr>
              <a:t>è molto importante che ti rechi immediatamente all’Ufficio del Personale per richiedere un lungo e meritato periodo di ferie</a:t>
            </a:r>
            <a:r>
              <a:rPr b="0" lang="it-IT" sz="32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200" spc="-1" strike="noStrike">
                <a:solidFill>
                  <a:srgbClr val="663300"/>
                </a:solidFill>
                <a:latin typeface="Arial"/>
              </a:rPr>
              <a:t>Buona Vacanza !</a:t>
            </a:r>
            <a:r>
              <a:rPr b="0" lang="sv-SE" sz="4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663300"/>
                </a:solidFill>
                <a:latin typeface="Arial"/>
              </a:rPr>
              <a:t>Sheraton Pallotta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663300"/>
                </a:solidFill>
                <a:latin typeface="Arial"/>
              </a:rPr>
              <a:t>Ufficio del Pers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276720" y="5410080"/>
            <a:ext cx="259056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3300"/>
                </a:solidFill>
                <a:latin typeface="Arial"/>
              </a:rPr>
              <a:t>Un sito interamente dedicato a chi lavora nel Settore del Tu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it-IT" sz="4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probiviro</a:t>
            </a:r>
            <a:r>
              <a:rPr b="0" lang="it-IT" sz="4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</a:t>
            </a:r>
            <a:r>
              <a:rPr b="0" lang="it-IT" sz="4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anner1a" descr=""/>
          <p:cNvPicPr/>
          <p:nvPr/>
        </p:nvPicPr>
        <p:blipFill>
          <a:blip r:embed="rId6"/>
          <a:stretch/>
        </p:blipFill>
        <p:spPr>
          <a:xfrm>
            <a:off x="2438280" y="685800"/>
            <a:ext cx="4467240" cy="5810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endshow"/>
          </p:cNvPr>
          <p:cNvSpPr/>
          <p:nvPr/>
        </p:nvSpPr>
        <p:spPr>
          <a:xfrm>
            <a:off x="3429000" y="5029200"/>
            <a:ext cx="26668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Ugo Nanni</cp:lastModifiedBy>
  <dcterms:modified xsi:type="dcterms:W3CDTF">2003-10-13T03:20:52Z</dcterms:modified>
  <cp:revision>30</cp:revision>
  <dc:subject/>
  <dc:title>Anser du att du har tillräckligt hög lön?</dc:title>
</cp:coreProperties>
</file>