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083B-0EFA-43EC-AA66-F24A0F4B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4425-3BD2-49A6-ACC9-D2D4D984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11A-8DB9-43DF-B4BF-16CD4C30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233D-FBDD-489D-AD60-711F817B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031E-1002-4197-B307-B263B9FE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D9B-13E2-4315-8C76-AA73DAA0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797B-73E3-4BD7-8BB8-DE0464A4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2FBC-B34A-4373-ADD1-86B6807B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8EC8-D151-4019-B999-79E9C01A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D4D-FECF-4426-A74E-68F152DD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5304-108D-45D4-BE2D-78C53822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4BA5-0188-42D9-8BE6-028B3099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0666-12A5-4BE6-9AEC-254D74889A32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3124080" y="5410080"/>
            <a:ext cx="2590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v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Che tipo di stipendio hai?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420920"/>
            <a:ext cx="82087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993300"/>
                </a:solidFill>
                <a:latin typeface="Arial"/>
                <a:ea typeface="Arial"/>
              </a:rPr>
              <a:t>Stipendio cipolla : lo vedi, lo prendi e pian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905120"/>
            <a:ext cx="786780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993300"/>
                </a:solidFill>
                <a:latin typeface="Arial"/>
                <a:ea typeface="Arial"/>
              </a:rPr>
              <a:t>Stipendio canaglia : non ti da una mano, solo ti fa soffrire, però non puoi vivere senza di l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819520"/>
            <a:ext cx="82087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993300"/>
                </a:solidFill>
                <a:latin typeface="Arial"/>
                <a:ea typeface="Arial"/>
              </a:rPr>
              <a:t>Stipendio vita : credi che un giorno migliorer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429000"/>
            <a:ext cx="8209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993300"/>
                </a:solidFill>
                <a:latin typeface="Arial"/>
                <a:ea typeface="Arial"/>
              </a:rPr>
              <a:t>Stipendio preservativo : ti fa passare la vog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038480"/>
            <a:ext cx="820872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993300"/>
                </a:solidFill>
                <a:latin typeface="Arial"/>
                <a:ea typeface="Arial"/>
              </a:rPr>
              <a:t>Stipendio impotente : quando ti serve, ti del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Che tipo di stipendio hai?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3124080" y="5410080"/>
            <a:ext cx="2590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v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Che tipo di stipendio hai?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420920"/>
            <a:ext cx="82087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Stipendio dieta : con lui mangi sempre di men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905120"/>
            <a:ext cx="7867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Stipendio ateo : e' meglio non credere..</a:t>
            </a:r>
            <a:r>
              <a:rPr b="1" lang="it-IT" sz="2000" spc="-1" strike="noStrike">
                <a:solidFill>
                  <a:srgbClr val="6633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819520"/>
            <a:ext cx="82087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Stipendio ateo : e' meglio non credere..</a:t>
            </a:r>
            <a:r>
              <a:rPr b="1" lang="it-IT" sz="2000" spc="-1" strike="noStrike">
                <a:solidFill>
                  <a:srgbClr val="6633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429000"/>
            <a:ext cx="82090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Stipendio umore nero : ridi per non piangere</a:t>
            </a:r>
            <a:r>
              <a:rPr b="1" lang="it-IT" sz="2000" spc="-1" strike="noStrike">
                <a:solidFill>
                  <a:srgbClr val="6633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4038480"/>
            <a:ext cx="820872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Stipendio mestruazione : arriva una volta al mese e dura pochi giorni</a:t>
            </a:r>
            <a:r>
              <a:rPr b="1" lang="it-IT" sz="2000" spc="-1" strike="noStrike">
                <a:solidFill>
                  <a:srgbClr val="6633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Questa è una revisione automatica del tuo salario.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 Il tuo nuovo salario sarà rivisto in base alla tua risposta a questa semplice domanda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3124080" y="5410080"/>
            <a:ext cx="2590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v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Vorresti avere un’aume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5334120" y="2666880"/>
            <a:ext cx="13716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81520" y="6081840"/>
            <a:ext cx="29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Per favore indica la tua prefer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Vorresti avere un’aume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1752480" y="4419720"/>
            <a:ext cx="1371600" cy="1218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81520" y="6081840"/>
            <a:ext cx="29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Per favore indica la tua prefer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Vorresti avere un’aume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5410080" y="4267080"/>
            <a:ext cx="13716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81520" y="6081840"/>
            <a:ext cx="29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Per favore indica la tua prefer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Grazie, puoi tornare al lavo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Sheraton Pallotta Ho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Ufficio Risorse Um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5867280"/>
            <a:ext cx="228600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V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In conformità alla tua decisione, il tuo stipendio non sarà aumentat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3429000" y="5867280"/>
            <a:ext cx="228600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V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3300"/>
                </a:solidFill>
                <a:latin typeface="Arial"/>
              </a:rPr>
              <a:t>Un sito interamente dedicato a chi lavora nel Settore del Tur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 Black"/>
              </a:rPr>
              <a:t>http://www.probiviro.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banner1a" descr=""/>
          <p:cNvPicPr/>
          <p:nvPr/>
        </p:nvPicPr>
        <p:blipFill>
          <a:blip r:embed="rId2"/>
          <a:stretch/>
        </p:blipFill>
        <p:spPr>
          <a:xfrm>
            <a:off x="2438280" y="685800"/>
            <a:ext cx="4467240" cy="581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429000" y="5715000"/>
            <a:ext cx="26668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V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18:50:22Z</dcterms:created>
  <dc:creator>ITiS</dc:creator>
  <dc:description/>
  <dc:language>en-US</dc:language>
  <cp:lastModifiedBy>Ugo Nanni</cp:lastModifiedBy>
  <dcterms:modified xsi:type="dcterms:W3CDTF">2003-10-13T04:32:28Z</dcterms:modified>
  <cp:revision>27</cp:revision>
  <dc:subject/>
  <dc:title>Anser du att du har tillräckligt hög lön?</dc:title>
</cp:coreProperties>
</file>